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1B3-DCA1-4318-A187-76AAC4AE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4CB-B1F7-4AD1-A782-F410D7A6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DFE1-7D21-4D07-ADD1-B87083B5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674-A04B-439E-B935-ECE9228B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1906-D80D-4276-A3EA-E7F40833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2BA3-46E4-4816-9CA9-75E9A06F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43CF-213A-4C05-8938-FFA03CF2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1962-5CC2-4EB1-9365-7BB3C7C6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957E-6869-4330-9372-5FB62D18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8F30-02DA-4B1E-833A-678163F5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B188-C134-43EF-A994-AF8C7249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9AB-3955-44D2-8376-BBDC91AC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9E3A-75B5-475E-A441-76C8E4CC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72FC-71DC-40A1-A07B-1135A0A9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E90B-8C99-4BD0-A595-639A906D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996A-F707-4310-BA10-0677FE59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EE6A-BA82-4B5A-9439-CF783840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23C-64C5-40A2-9EF1-3B00258A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6E74-661E-4A26-95A4-8658B0C3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1871-0E35-4332-BBBD-94F8E76E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70C-5A75-455C-BD7C-A39A1589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111-69E5-423D-8633-6F998ADA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358A-C37A-4EBF-854E-A696093B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454-DF13-439A-958F-65CCEBC7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69CE-26D3-4CE5-977A-9FADCA81A0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76D0-F548-44FA-8067-CFED1487B0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Geometry 1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nday, August 23, 20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ind, communicate and evaluat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l work:  Using at least three complete sentences, please explain how much time you spent preparing for this exam and HOW you prepared for this ex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e H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terns and Logic QU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Geometry 1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uesday, August 24, 2010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se segment postu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se the distance formula to measure di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ll Wor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Evaluate | 4-7| and |4.3 -1.2|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-Patterns and Lo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Geometry 1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ursday, August 26, 20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se segment postu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se the distance formula to measure di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ll Wo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(In your own words) What is the difference between collinear points and coplanar poin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s of seg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gnment:  Lesson 1.3, problems 1-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gles and Their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gnment: Lesson 1.3, 1-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Geometry 1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ursday, August 27, 200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ngle postu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y angles as acute, obtuse or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L 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ines segments with equal measures 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 A pair of opposite rays form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HW 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s and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 Lesson 1.3, 1-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08-24T19:49:22Z</dcterms:modified>
  <cp:revision>23</cp:revision>
  <dc:subject/>
  <dc:title>Slide 1</dc:title>
</cp:coreProperties>
</file>